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0F7-1570-4FDF-AF90-B013ADFF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B5C-4724-4B70-873A-A1EC94C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FC5-28FF-43DB-9623-9347E1FF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3B4-771A-4DB4-9E63-982CA683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E86-ABD3-48A5-AB34-AD83F119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2EE1-065F-4B27-AE27-6D80C27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C49F-23A3-4A19-B21A-6DAAC65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FFE6-C38C-46D6-9A21-80A972F5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3802-E80C-4DF1-AC87-D8618A5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3357-3783-483B-9E4D-3B43760E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DFFB-C4B4-4947-B90F-78337A4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56A-9A80-4F4D-BD16-F20F09C4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671F-3E70-4203-B908-A5BE355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8FEF-84C1-4712-B4F8-316EC4E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6A8D-9769-4FB6-BECF-487A5AC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C1A-87C2-4369-9E04-09E77149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E8D1-2535-405B-BDF7-316EDCB2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779-9907-4851-9CEE-4B3E3ED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1D4-81DC-4310-980E-E5747A9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CBC-9CB7-4E49-BA7B-3143F97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B2F-A163-4B01-9603-93D3660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705-C36D-4910-BEAD-5D91921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801-8992-4E4D-9FEB-33B029D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5AE-0827-4FDC-95EF-C549CAA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22d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4617b">
                  <a:alpha val="50196"/>
                </a:srgbClr>
              </a:gs>
              <a:gs pos="100000">
                <a:srgbClr val="023c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f6fc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696300"/>
              </a:gs>
              <a:gs pos="50000">
                <a:srgbClr val="e2d700"/>
              </a:gs>
              <a:gs pos="100000">
                <a:srgbClr val="696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4617b"/>
              </a:gs>
              <a:gs pos="100000">
                <a:srgbClr val="010f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1BA-9151-4CDD-9214-5A93AA945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2d39"/>
            </a:gs>
            <a:gs pos="50000">
              <a:srgbClr val="04617b"/>
            </a:gs>
            <a:gs pos="100000">
              <a:srgbClr val="022d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23c4c"/>
              </a:gs>
              <a:gs pos="50000">
                <a:srgbClr val="04617b">
                  <a:alpha val="50196"/>
                </a:srgbClr>
              </a:gs>
              <a:gs pos="100000">
                <a:srgbClr val="023c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4617b"/>
              </a:gs>
              <a:gs pos="100000">
                <a:srgbClr val="010f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f6fc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C6E7-4078-4321-8967-93E38BA6D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944-04A6-48FE-8205-FBB03CC8D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981000"/>
            <a:ext cx="8748720" cy="22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ROIECTUL </a:t>
            </a:r>
            <a:br>
              <a:rPr sz="4400"/>
            </a:b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metoda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de formare, informare, evaluare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310F-AFE9-42D1-80FB-B7250D254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mariti activitatea de elaborare a proiectelor , cerand elevilor sa raporteze periodic gradul de realiz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eniti in activitatea unui elev sau a echipei numai daca este strict neces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ati elevii sa se descurce cat mai mult singuri 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urajati-i , au nevoie sa simta sprijin si nu critica ( chiar daca aceasta este obiectiva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ele rezultate in urma proiectului este bine sa fie exp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547640" y="58428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comanda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9D50-1C44-4C46-85B6-A43BF2C88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estionar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e sunt etapele pe care le-ai parcurs în vederea rezolvãrii efective a sarcinii  de lucru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 rezolvarea acestei sarcini am învãţat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ficultãţile  pe care le-am întâmpinat au fost urmãtoare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 cã mi-aş putea îmbunãtãţi  performanţa dacã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 cã activitatea mea ar putea fi apreciatã ca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C41-9B89-40F7-A848-945F43322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eed-backul elevilor asistenti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 ti-a plãcu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e nu ti-a plãcu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um apreciezi activitatea colegilo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1E65-4662-48D9-84E3-2E8BD3A38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d700"/>
                </a:solidFill>
                <a:latin typeface="Times New Roman"/>
              </a:rPr>
              <a:t>In loc de final …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“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Discipolul vine la tine sa-ti ceara . Tu , profesor trebuie sa-l inveti ca n-are nimic de primit, ca trebuie sa creasca. Discipolul tau vrea sa devina iedera . Tu trebuie sa-l lasi sa fie ce trebuie sa fie : chiar buruiana. Si cel mai frumos sfarsit al tau – fertilitatea – e sa te napadeasca buruienile .” ( C. Noica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E10-5DC7-4FE4-8BCC-E4AE5FFE1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Bibliografie :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e suport de la seminarul de formare  a formatorilor naţionali,  Bucureşti, noiembrie -1998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ierea propunerilor de finanţare-suport de curs, Fundaţia pentru Dezvoltarea Societǎţii Civile, 200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gdan Balan, Ştefan Boncu, Andrei Cosmovici, Teodor Cozma, Carmen Creţu, Constantin Cucoş, Ion Dafinoiu, Luminiţa Iacob, Constantin Moise, Mariana Momanu, Adrian Neculau ,Tiberiu Rudicã , Psihopedagogie pentru examenele de definitivare şi grade didactice, Ed. Polirom,1998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eja  Emanoil, Metodica predãrii fizicii,1995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ter Dumitru, Moldoveanu Mihaela , Gradul I in Invaţãmânt , ghid practic, EDP, Bucureşti, 1997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E0E-45EC-475E-BE86-BFDFC2C0C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 este proiectul ?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228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iectul este un plan sau o lucrare cu caracter aplicativ , intocmita pe baza unei teme dat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iectul solicita elevilor sa faca o cercetare , o activitate in echipa , o analiza , sinteza sau o creatie 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levul va încerca sã caute rãspuns la urmãtoarele întrebãr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e voi face , ce sarcini trebuie îndeplinit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u ce voi face, ce resurse necesitã fiecare sarcinã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um voi fa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um voi şti dacã ceea ce trebuia fãcut a fost fãcut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EEDD-330A-4AA5-825D-D8D296017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mii pasi in realizarea unui proiect</a:t>
            </a: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dbf5f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iectul –presupune parcurgerea mai multor etape si alocarea unei perioade mari de timp pentru realizare 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ele realizarii proiectului sunt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fc6"/>
                </a:solidFill>
                <a:latin typeface="Arial"/>
              </a:rPr>
              <a:t>I . Pregatirea proiectul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II. Implementarea proiectulu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. Evaluarea proiectulu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9F01-1AA1-4F12-A524-39497B58F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gatirea proiectului ... Cel mai greu e inceputul !</a:t>
            </a: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980720"/>
            <a:ext cx="79930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oiectul incepe in clasa prin conturarea obiectivelor ( in functie de tema aleasa de elevi din lista cu teme propusa de profesor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rmarea echipelor de lucru ( omogene sau , de preferat eterogene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abilirea sarcinilor de lucru si a timpului aloca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dentificarea resurselor informationale si materiale necesa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egerea modului de prezentare :poster, prezentare power-point, map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223-0FD2-42C0-8388-96E410CC0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I. Implementarea proiectului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341000"/>
            <a:ext cx="86407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diul de pregatire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cutii cu elevii asupra subiectulu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bilirea modalitatii de lucr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bilirea unor idei principale necesare demarari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dicarea unei bibliografii adecvat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mplementarea propriu – zisa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vii lucreaza sub directa indrumare a profesorulu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sta devine un observator activ al muncii lor intervenind doar atunci cand este nevoie 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626-4FE8-466B-9B36-DD32B3865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I. Evaluarea rezultatelor :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e catre profesor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 fost obiectivele clar definite 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 fost atinse obiective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 trebuie schimbat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orul evalueaza calitatea proiectului dar si modul de prezentare al acestuia . El va urmari sa vada daca tema propusa spre studiu a fost  inteleasa corect , daca au fost sistematizate corespunzator rezultate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e catre elev :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levii prezinta intregii clase si profesorului, rezultatul muncii lor, autoevaluandu-s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e catre colegi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prin procesul de interevalu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A2C-74F0-4FC7-8D77-B210A5027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imensiunea formativã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evul capãtã deprinderi de muncã planificatã, eficientã, disciplinatã. El conştientizeazã  cã parcurgerea drumului pentru realizarea scopului este la fel  de importantã ca  scopul însuşi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operarea   presupune  comunicarea deschisã, onestã (elevi-elevi, elevi-profesor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Isi dezvolta   spiritul de încredere, si  asumarea responsabilitãţii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ace ca forţa comunã sã devinã un obiectiv al colectivului şi dezvoltã spiritul activ 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evul devine iniţiator,organizator, are posibilitatea sã opteze, sã propunã, sã-şi  confrunte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ideile cu ale altora şi nu în ultimul rand, sã-şi verifice importanţa socialã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3659-5B8A-4AD1-97A7-5B47ADE45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imensiunea informativã</a:t>
            </a:r>
            <a:br>
              <a:rPr sz="4400"/>
            </a:b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iectul  atinge latura sa informativã prin accesul elevului la multiple surse de informa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etoda proiectelor are un carac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disciplinar (</a:t>
            </a:r>
            <a:r>
              <a:rPr b="1" lang="fr-FR" sz="2400" spc="-1" strike="noStrike">
                <a:solidFill>
                  <a:srgbClr val="ffccff"/>
                </a:solidFill>
                <a:latin typeface="Arial"/>
              </a:rPr>
              <a:t>metoda implicã un anumit grad de integrare între diferite domenii de cunoaştere, diferite abordãri, permiţând schimburi de ordin conceptual şi metodologic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luridisciplinar ( </a:t>
            </a:r>
            <a:r>
              <a:rPr b="1" lang="fr-FR" sz="2400" spc="-1" strike="noStrike">
                <a:solidFill>
                  <a:srgbClr val="ffccff"/>
                </a:solidFill>
                <a:latin typeface="Arial"/>
              </a:rPr>
              <a:t>unele teme pot fi abordate de mai multe discipline cu metodologii diferit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A76-DC32-4C43-A357-5CF97165C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imensiunea evaluativa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În timpul realizãrii sarcinilor de lucru elevul, sau grupul de elevi  vor  analiza resursele  investite ,activitãţile  desfãşurate, rezultatele obţinut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est proces de monitorizare fãcut din interior, se finalizeazã cu o autoevaluare care-l va obişnui pe elev  cu aprecierea corectã a rezultatelor acţiunilor sal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l capãtã astfel obiectivitate şi putere  de discernãmânt în aprecierea acţiunilor sale şi ale celorlalţ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DELEAN NORIN</cp:lastModifiedBy>
  <dcterms:modified xsi:type="dcterms:W3CDTF">2011-03-03T19:33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